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5674-BFA2-4DD9-9272-BC215AFB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4C65-38D0-47B8-B022-63E48DE8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0C30-895D-47DF-B946-39ADA4E3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728-D5FD-488B-A409-91E952B5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AD0B-B8AF-41AF-A52D-57534B7A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59A5-0263-4413-9B86-F3B77051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2543-256C-4966-BAE9-58B2363E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7F2-2789-4DC4-BDCE-D02DD112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FA1-5BE5-4A2A-8F3A-FCB84F8B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29E-4059-4BFA-B4A4-4E4F2ADA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E60-0C00-4F0F-BCB4-1C71F570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772D-077E-4259-B329-A2469DD5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F27E-FCA1-4717-8099-D067DF5F18E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uropass-ro.ro/pagina/cadrul_celor_8_competente_cheie" TargetMode="External"/><Relationship Id="rId2" Type="http://schemas.openxmlformats.org/officeDocument/2006/relationships/hyperlink" Target="http://www.europass-ro.ro/pagina/cadrul_celor_8_competente_cheie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EQF_ro.pdf" TargetMode="External"/><Relationship Id="rId2" Type="http://schemas.openxmlformats.org/officeDocument/2006/relationships/hyperlink" Target="file:///EQF_ro.pdf" TargetMode="External"/><Relationship Id="rId3" Type="http://schemas.openxmlformats.org/officeDocument/2006/relationships/hyperlink" Target="file:///EQF_ro.pdf" TargetMode="External"/><Relationship Id="rId4" Type="http://schemas.openxmlformats.org/officeDocument/2006/relationships/hyperlink" Target="file:///EQF_ro.pdf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uropass.cedefop.europa.eu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isj.dj.edu.ro/" TargetMode="External"/><Relationship Id="rId2" Type="http://schemas.openxmlformats.org/officeDocument/2006/relationships/hyperlink" Target="http://miedolj.isj.edu.ro/" TargetMode="External"/><Relationship Id="rId3" Type="http://schemas.openxmlformats.org/officeDocument/2006/relationships/hyperlink" Target="http://www.europass-ro.ro/" TargetMode="External"/><Relationship Id="rId4" Type="http://schemas.openxmlformats.org/officeDocument/2006/relationships/hyperlink" Target="http://www.anpcdefp.ro/" TargetMode="External"/><Relationship Id="rId5" Type="http://schemas.openxmlformats.org/officeDocument/2006/relationships/hyperlink" Target="http://www.edufor.ro/" TargetMode="External"/><Relationship Id="rId6" Type="http://schemas.openxmlformats.org/officeDocument/2006/relationships/hyperlink" Target="http://www.ccddj.ro/" TargetMode="External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ordinul_mects_nr._4469_-_2012_europass.pdf/" TargetMode="External"/><Relationship Id="rId2" Type="http://schemas.openxmlformats.org/officeDocument/2006/relationships/hyperlink" Target="http://ordinul_mects_nr._4469_-_2012_europass.pdf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uropass.cedefop.europa.e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uropass.cedefop.europa.eu/ro/documents/curriculum-vitae" TargetMode="External"/><Relationship Id="rId2" Type="http://schemas.openxmlformats.org/officeDocument/2006/relationships/hyperlink" Target="http://europass.cedefop.europa.eu/ro/documents/european-skills-passport/language-passport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uropass.cedefop.europa.eu/ro/documents/european-skills-passport/europass-mobility" TargetMode="External"/><Relationship Id="rId2" Type="http://schemas.openxmlformats.org/officeDocument/2006/relationships/hyperlink" Target="http://europass.cedefop.europa.eu/ro/documents/european-skills-passport/certificate-supplement" TargetMode="External"/><Relationship Id="rId3" Type="http://schemas.openxmlformats.org/officeDocument/2006/relationships/hyperlink" Target="http://europass.cedefop.europa.eu/ro/documents/european-skills-passport/diploma-supplement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ATELIERUL DE FORMARE EUROPAS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3885840"/>
            <a:ext cx="7993080" cy="19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98989"/>
                </a:solidFill>
                <a:latin typeface="Calibri"/>
              </a:rPr>
              <a:t>3 aprilie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98989"/>
                </a:solidFill>
                <a:latin typeface="Calibri"/>
              </a:rPr>
              <a:t>Casa Corpului Didactic Dol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898989"/>
                </a:solidFill>
                <a:latin typeface="Calibri"/>
              </a:rPr>
              <a:t>Promotor </a:t>
            </a:r>
            <a:r>
              <a:rPr b="1" lang="ro-RO" sz="1900" spc="-1" strike="noStrike">
                <a:solidFill>
                  <a:srgbClr val="898989"/>
                </a:solidFill>
                <a:latin typeface="Calibri"/>
              </a:rPr>
              <a:t>Naţional Europass: Elena Diana Brătucu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europass.jpg"/>
          <p:cNvPicPr/>
          <p:nvPr/>
        </p:nvPicPr>
        <p:blipFill>
          <a:blip r:embed="rId1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adrul european al celor 8 c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ompetențe-ch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920" y="1600200"/>
            <a:ext cx="86421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 2006, Parlamentul European si Consiliul UE au adoptat o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Recomandare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u privire la stabilirea de competente cheie pentru invatarea de-a lungul intregii vieti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Cadrul european privind competențele-cheie în procesul de învățare de-a lungul vieții identifică și definește 8 competențe-cheie necesare în vederea împlinirii pe plan personal a 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cetățeniei active,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incluziunii sociale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și a 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capacității de inserție profesională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într-o </a:t>
            </a: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societate bazată pe cunoașter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1. comunicarea în limba matern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2. comunicarea în limbi străin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3. competențele în domeniul matematicii și competențele de bază în știință și tehnologi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4. competențele digital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5. capacitatea de a învăța procesul de învățar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6. competențele sociale și civic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7. spiritul de inițiativă și antreprenoria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8. conștiința și expresia cultural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izitaţi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europass-ro.ro/pagina/cadrul_celor_8_competente_chei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europass.jpg"/>
          <p:cNvPicPr/>
          <p:nvPr/>
        </p:nvPicPr>
        <p:blipFill>
          <a:blip r:embed="rId3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5948640" y="630864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1200" spc="-1" strike="noStrike">
                <a:solidFill>
                  <a:srgbClr val="000000"/>
                </a:solidFill>
                <a:latin typeface="Arial"/>
              </a:rPr>
              <a:t>© Uniunea Europeană, 2002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ISCED şi EQ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national Standard Classification of Education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- ISCED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(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ndard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ternational d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sificare al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ucatie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uropean Qualifications Framework - EQF (Cadrul European al Calificărilor - CE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ISCED şi EQ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ternational Standard Classification of Education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 - ISCE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(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ndard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ternational de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asificare al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ucatiei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) : 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clasificare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</a:rPr>
              <a:t>programele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lor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</a:rPr>
              <a:t> educaţion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uropean Qualifications Framework - EQF (Cadrul European al Calificărilor - CEC): 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clasificarea </a:t>
            </a:r>
            <a:r>
              <a:rPr b="1" lang="vi-VN" sz="2400" spc="-1" strike="noStrike">
                <a:solidFill>
                  <a:srgbClr val="000000"/>
                </a:solidFill>
                <a:latin typeface="Calibri"/>
              </a:rPr>
              <a:t>sistemelor şi cadrelor calificărilo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vi-VN" sz="2000" spc="-1" strike="noStrike">
                <a:solidFill>
                  <a:srgbClr val="000000"/>
                </a:solidFill>
                <a:latin typeface="Calibri"/>
              </a:rPr>
              <a:t>Nivelurile CEC nu reflectă participarea la un program educaţional particular sau competenţele cerute pentru anumite sarcini sau ocupaţii.</a:t>
            </a:r>
            <a:r>
              <a:rPr b="0" i="1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vi-VN" sz="2000" spc="-1" strike="noStrike">
                <a:solidFill>
                  <a:srgbClr val="000000"/>
                </a:solidFill>
                <a:latin typeface="Calibri"/>
              </a:rPr>
              <a:t>CEC presupune doar o </a:t>
            </a:r>
            <a:r>
              <a:rPr b="0" i="1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vi-VN" sz="2000" spc="-1" strike="noStrike">
                <a:solidFill>
                  <a:srgbClr val="000000"/>
                </a:solidFill>
                <a:latin typeface="Calibri"/>
              </a:rPr>
              <a:t>ierarhie parţială a programelor educaţionale</a:t>
            </a:r>
            <a:r>
              <a:rPr b="0" i="1" lang="ro-RO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vi-VN" sz="2000" spc="-1" strike="noStrike">
                <a:solidFill>
                  <a:srgbClr val="000000"/>
                </a:solidFill>
                <a:latin typeface="Calibri"/>
              </a:rPr>
              <a:t>CEC se concentrează asupra rezultatelor învăţării sub forma cunoştinţelor, a abilităţilor şi a competenţelor</a:t>
            </a:r>
            <a:r>
              <a:rPr b="0" i="1" lang="ro-RO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Sistemul naţional de învăţămâ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268360" y="1074600"/>
            <a:ext cx="410400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QF în România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NC – Cadrul National al Calificarilor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lificările obţinute prin absolvirea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învățământul profesional și tehnic preuniversita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nt structurate astfel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ivelul I de calificare prin școala de arte și meserii (corespunzător nivelului 2 EQ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ivelul II de calificare prin anul de completare (nivel 3 EQ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ivelul III de calificare prin ciclul superior al liceului – filiera tehnologică (nivel 4 EQ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învățământ postliceal (nivel 5 EQ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lificările obţinute prin absolvirea studiilor universitar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sunt structurate astfel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tudiile universitare de licenţă corespund nivelului 6 de calificare EQF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tudiile universitare de masterat corespund nivelului 7 de calificare EQF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tudiile universitare de doctorat corespund nivelului 8 de calificare EQ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Cadrul European al Calificărilor </a:t>
            </a:r>
            <a:br>
              <a:rPr sz="2800"/>
            </a:b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European Qualifications Framework for lifelong learning (EQF)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RECOMANDAREA PARLAMENTULUI EUROPEAN ȘI A CONSILIULU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din 23 aprilie 2008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privind stabilirea Cadrului european al calificărilor pentru învățarea de-a lungul vieți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defineş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lificare 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n rezultat formal al unui proces de evaluare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 de validare, care este ob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ut atunci când u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rganism competent stabil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e cã o persoanã a ob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ut rezultate ca urmare a înv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ãrii la anumite standard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vi-VN" sz="2000" spc="-1" strike="noStrike">
                <a:solidFill>
                  <a:srgbClr val="000000"/>
                </a:solidFill>
                <a:latin typeface="Calibri"/>
              </a:rPr>
              <a:t>unoștințe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rezultatul asimilării de informații prin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învăț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ansamblul de fapte,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principii, teorii și practici legate de un anumit domeniu de muncă sau de studi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unoștinț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teore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unoştinţe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fap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europass.jpg"/>
          <p:cNvPicPr/>
          <p:nvPr/>
        </p:nvPicPr>
        <p:blipFill>
          <a:blip r:embed="rId1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5948640" y="630864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1200" spc="-1" strike="noStrike">
                <a:solidFill>
                  <a:srgbClr val="000000"/>
                </a:solidFill>
                <a:latin typeface="Arial"/>
              </a:rPr>
              <a:t>© Uniunea Europeană, 2002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&gt;&gt;</a:t>
            </a: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Cadrul European al Calificărilor </a:t>
            </a:r>
            <a:br>
              <a:rPr sz="2800"/>
            </a:b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European Qualifications Framework for lifelong learning (EQ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RECOMANDAREA PARLAMENTULUI EUROPEAN ȘI A CONSILIULUI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din 23 aprilie 2008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privind stabilirea Cadrului european al calificărilor pentru învățarea de-a lungul vieții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defineşt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Abilităţ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pacitatea de a aplica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 de a utiliza cuno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in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 pentru a aduce la îndeplinire sarcini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 pentru a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zolva problem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bilităţi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gnitive (implicând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tilizarea gândirii logice, intuitiv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 creativ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abilităţi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actice (implicând dexteritate manualã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 utilizarea de metode, materiale,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elt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ş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 instrument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ompetenţ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capacitatea dovedită de a utiliza cunoștințe, abilități și capacități personale, sociale și/sau metodologic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în situații de muncă sau de studiu și pentru dezvoltarea profesională și personal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alibri"/>
              </a:rPr>
              <a:t>competența descrisă din perspectiva responsabilității și autonomie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adrul european al calificărilor (</a:t>
            </a: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EQF/</a:t>
            </a:r>
            <a:r>
              <a:rPr b="0" lang="vi-VN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CEC)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vi-VN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Descriptori de definire a niveluril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europass.jpg"/>
          <p:cNvPicPr/>
          <p:nvPr/>
        </p:nvPicPr>
        <p:blipFill>
          <a:blip r:embed="rId5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6151680" y="646416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1200" spc="-1" strike="noStrike">
                <a:solidFill>
                  <a:srgbClr val="000000"/>
                </a:solidFill>
                <a:latin typeface="Arial"/>
              </a:rPr>
              <a:t>© Uniunea Europeană, 2002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Calibri"/>
              </a:rPr>
              <a:t>ACTIVITATE PRACTICĂ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cesaţi portalul european Europa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uropass.cedefop.europa.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Accesati meniul </a:t>
            </a:r>
            <a:r>
              <a:rPr b="1" lang="ro-RO" sz="2400" spc="-1" strike="noStrike">
                <a:solidFill>
                  <a:srgbClr val="0070c0"/>
                </a:solidFill>
                <a:latin typeface="Calibri"/>
              </a:rPr>
              <a:t>“Documente Europas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Accesaţi secţiunile dedicate fiecărui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Accesaţi submeniurile </a:t>
            </a:r>
            <a:r>
              <a:rPr b="1" lang="ro-RO" sz="2400" spc="-1" strike="noStrike">
                <a:solidFill>
                  <a:srgbClr val="0070c0"/>
                </a:solidFill>
                <a:latin typeface="Calibri"/>
              </a:rPr>
              <a:t>“Descărcaţi documente”/“Exempl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Evaluaţi-vă nivelul competenţelor  lingvistice într-o limbă străină, utilizând grila de autoevaluare din </a:t>
            </a:r>
            <a:r>
              <a:rPr b="1" lang="ro-RO" sz="2400" spc="-1" strike="noStrike">
                <a:solidFill>
                  <a:srgbClr val="0070c0"/>
                </a:solidFill>
                <a:latin typeface="Calibri"/>
              </a:rPr>
              <a:t>Paşaportul lingvistic Europass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, elaborată conform Cadrului European Comun de Referinţă pentru Limbi Stră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Trimiteti modelul noului CV Europass la 10 colegi, prin e-mail. La CC, adaugati si adresa dianabratucu@yahoo.co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Calibri"/>
              </a:rPr>
              <a:t>ACTIVITATE PRACTICĂ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528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cesaţi portalul european Europa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http://europass.cedefop.europa.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Accesati meniul </a:t>
            </a:r>
            <a:r>
              <a:rPr b="1" lang="ro-RO" sz="2400" spc="-1" strike="noStrike">
                <a:solidFill>
                  <a:srgbClr val="0070c0"/>
                </a:solidFill>
                <a:latin typeface="Calibri"/>
              </a:rPr>
              <a:t>“Documente Europas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Accesaţi secţiunea </a:t>
            </a:r>
            <a:r>
              <a:rPr b="1" lang="ro-RO" sz="2400" spc="-1" strike="noStrike">
                <a:solidFill>
                  <a:srgbClr val="0070c0"/>
                </a:solidFill>
                <a:latin typeface="Calibri"/>
              </a:rPr>
              <a:t>“Curriculum vita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Creaţi CV-ul on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Creaţi Paşaportul European al Competenţe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Salvaţi CV-ul în format pdf (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cumentele şi datele conţinute de acestea nu sunt permanent stocate pe serverele Europass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Vizualiza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-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Actualizaţi-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Trimiteţi-l prin e-mail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pe </a:t>
            </a:r>
            <a:r>
              <a:rPr b="1" lang="en-GB" sz="2400" spc="-1" strike="noStrike">
                <a:solidFill>
                  <a:srgbClr val="0070c0"/>
                </a:solidFill>
                <a:latin typeface="Calibri"/>
              </a:rPr>
              <a:t>adresa personala </a:t>
            </a: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şi pe dianabratucu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@yahoo.co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entru mai multe informaţii accesaţ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http://europass.cedefop.europa.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Calibri"/>
              </a:rPr>
              <a:t>www.europass-ro.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Calibri"/>
              </a:rPr>
              <a:t>SUCCES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Diana Brătucu - promotor naţional Europ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anabratuc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@yahoo.c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www.edufor.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www.facebook.com/AsociatiaEdu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tact@edufor.r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europass.jpg"/>
          <p:cNvPicPr/>
          <p:nvPr/>
        </p:nvPicPr>
        <p:blipFill>
          <a:blip r:embed="rId1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ORGANIZAT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Inspectoratul Şcolar Judeţean Dolj – Departamentul Proiecte Educaţionale: 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	www.isj.dj.edu.ro/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iedolj.isj.edu.ro/</a:t>
            </a:r>
            <a:r>
              <a:rPr b="1" lang="ro-RO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Centrul Naţional Europass – ANPCDEFP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uropass-ro.ro</a:t>
            </a:r>
            <a:r>
              <a:rPr b="1" lang="ro-RO" sz="19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anpcdefp.ro</a:t>
            </a:r>
            <a:r>
              <a:rPr b="1" lang="ro-RO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Asociaţia EduFor Craiova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edufor.ro</a:t>
            </a:r>
            <a:r>
              <a:rPr b="1" lang="ro-RO" sz="19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Casa Corpului Didactic Dolj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ccddj.ro</a:t>
            </a:r>
            <a:r>
              <a:rPr b="1" lang="ro-RO" sz="19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europass.jpg"/>
          <p:cNvPicPr/>
          <p:nvPr/>
        </p:nvPicPr>
        <p:blipFill>
          <a:blip r:embed="rId7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3308040" y="324468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miedolj.isj.edu.r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CENTRUL NAŢIONAL EUROPASS (C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1700" spc="-1" strike="noStrike">
                <a:solidFill>
                  <a:srgbClr val="000000"/>
                </a:solidFill>
                <a:latin typeface="Calibri"/>
              </a:rPr>
              <a:t>Cine este CNE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arte a Agentiei Nationale pentru Programe Comunitare in Domeniul Educatiei si Formarii Profesionale (ANPCDEFP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1700" spc="-1" strike="noStrike">
                <a:solidFill>
                  <a:srgbClr val="000000"/>
                </a:solidFill>
                <a:latin typeface="Calibri"/>
              </a:rPr>
              <a:t>Cum a apărut în România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HG 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nr. 67 din 24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.02.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007 </a:t>
            </a:r>
            <a:r>
              <a:rPr b="0" i="1" lang="en-GB" sz="1700" spc="-1" strike="noStrike">
                <a:solidFill>
                  <a:srgbClr val="000000"/>
                </a:solidFill>
                <a:latin typeface="Calibri"/>
              </a:rPr>
              <a:t>privind participarea Romaniei la programele comunita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1700" spc="-1" strike="noStrike">
                <a:solidFill>
                  <a:srgbClr val="000000"/>
                </a:solidFill>
                <a:latin typeface="Calibri"/>
              </a:rPr>
              <a:t>Ce rol are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Dezvolta si implementeaza strategia nationala Europas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Deruleaza activitati de informare si promovare a documentelor Europass şi Youthpas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Ofera sprijin in completarea si emiterea documentelor Europass şi Youthpas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În cazul Documentului de mobilitate Europass, coordoneaza procesul de eliberare a documentelor, impreuna cu institutiile emitente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Coordoneaza reteaua de promotori Europass care organizeaza si desfasoara activitati de informare/pro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ovare la nivel loca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100" spc="-1" strike="noStrike">
                <a:solidFill>
                  <a:srgbClr val="000000"/>
                </a:solidFill>
                <a:latin typeface="Calibri"/>
              </a:rPr>
              <a:t>www.europass-ro.ro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europass.jpg"/>
          <p:cNvPicPr/>
          <p:nvPr/>
        </p:nvPicPr>
        <p:blipFill>
          <a:blip r:embed="rId1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EUROP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Ce este 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Europass</a:t>
            </a: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Un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portofoliu personal de documente pe care cetatenii il pot folosi pentru a-si face cunoscute calificarile si competentele in Europa, in vederea facilitarii accesului pe piata muncii sau al accesului la programe de educatie si forma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2700" spc="-1" strike="noStrike">
                <a:solidFill>
                  <a:srgbClr val="000000"/>
                </a:solidFill>
                <a:latin typeface="Calibri"/>
              </a:rPr>
              <a:t>Cum a apărut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ecizia nr. 2241/2004/EC a Parlamentului European si a Consiliului UE (15 decembrie 2004), in vederea crearii unui cadru de asigurare a transparentei calificarilor si competentelor in spatiul europea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europass.jpg"/>
          <p:cNvPicPr/>
          <p:nvPr/>
        </p:nvPicPr>
        <p:blipFill>
          <a:blip r:embed="rId1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5948640" y="630864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1200" spc="-1" strike="noStrike">
                <a:solidFill>
                  <a:srgbClr val="000000"/>
                </a:solidFill>
                <a:latin typeface="Arial"/>
              </a:rPr>
              <a:t>© Uniunea Europeană, 2002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METODOLOGIA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e utilizare a instrumentelor Europass si Youthp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ETODOLOGIA de utilizare a instrumentelor Europass si Youthpass aprobat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ă prin ORDIN nr. 4.469 din 12 iunie 2012 - 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MINISTERUL MUNCII, FAMILIEI SI PROTEC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IEI SOCIALE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MINISTERUL EDUCA</a:t>
            </a:r>
            <a:r>
              <a:rPr b="0" lang="ro-RO" sz="17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IEI, CERCETÃRII, TINERETULUI SI SPORTULU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0000"/>
                </a:solidFill>
                <a:latin typeface="Calibri"/>
              </a:rPr>
              <a:t>CAP. I</a:t>
            </a:r>
            <a:r>
              <a:rPr b="0" i="1" lang="ro-RO" sz="1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n-GB" sz="1700" spc="-1" strike="noStrike">
                <a:solidFill>
                  <a:srgbClr val="000000"/>
                </a:solidFill>
                <a:latin typeface="Calibri"/>
              </a:rPr>
              <a:t>Dispozi</a:t>
            </a:r>
            <a:r>
              <a:rPr b="0" i="1" lang="ro-RO" sz="17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i="1" lang="en-GB" sz="1700" spc="-1" strike="noStrike">
                <a:solidFill>
                  <a:srgbClr val="000000"/>
                </a:solidFill>
                <a:latin typeface="Calibri"/>
              </a:rPr>
              <a:t>ii genera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RT.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Documentele Europass si Youthpass sunt instrumente care facilitează accesul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oricărei persoane la programe de educa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ie/formare sau pe pia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a muncii, indiferent de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vârstă, nivel de educa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ie sau domeniu de activit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RT.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Documentele Europass si Youthpass reprezintă instrumente de prezentare si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organizare a propriului parcurs de dezvoltare si formare, din perspectiva învă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ării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 tot parcursul vie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RT.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Documentele Europass si Youthpass sunt pă</a:t>
            </a:r>
            <a:r>
              <a:rPr b="0" i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rţi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 componente ale portofoliului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educa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ional si ale portofoliului de educa</a:t>
            </a:r>
            <a:r>
              <a:rPr b="0" i="1" lang="ro-RO" sz="1800" spc="-1" strike="noStrike">
                <a:solidFill>
                  <a:srgbClr val="000000"/>
                </a:solidFill>
                <a:latin typeface="Calibri"/>
              </a:rPr>
              <a:t>ţ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ie permanent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europass.jpg"/>
          <p:cNvPicPr/>
          <p:nvPr/>
        </p:nvPicPr>
        <p:blipFill>
          <a:blip r:embed="rId1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ETODOLOGIA_x000b_de utilizare a instrumentelor Europass si Youthpass</a:t>
            </a: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– OM 4469/12.06.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1. Textul metodologie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p. I. Dispozitii gene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p. II. Instrumente Europ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p III. Certificatul Youthp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p. IV. Dispozi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ţii fin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</a:rPr>
              <a:t>2. Anex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NEXA 1 la metodologie:  InstrucŢiuni pentru folosirea curriculumului vitae Europ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NEXA 2 la metodologie: Pasaport lingvistic Europ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NEXA 3 la metodologie : InstrucŢiuni pentru completarea Pasaportului lingvistic Europ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NEXA 4 la metodologie : Niveluri europene - Grilă de autoevalu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NEXA 5 la metodologie : Supliment Europass la diplomã europass/Diploma Suppl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000" spc="-1" strike="noStrike">
                <a:solidFill>
                  <a:srgbClr val="000000"/>
                </a:solidFill>
                <a:latin typeface="Calibri"/>
              </a:rPr>
              <a:t>-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europass.jpg"/>
          <p:cNvPicPr/>
          <p:nvPr/>
        </p:nvPicPr>
        <p:blipFill>
          <a:blip r:embed="rId3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E CUPRINDE PORTOFOLIUL EUROPA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. Curriculum Vitae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     2. Pasaportul lingvistic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     3. Suplimentul la certificatul profesional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     4. Suplimentul la diploma de licenta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     5. Documentul de mobilit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ertificatul Youthpass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– Programul Ti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mpeten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le dobândite în contexte nonformale si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formale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Accesaţi p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ortalul european Europass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uropass.cedefop.europa.eu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europass.jpg"/>
          <p:cNvPicPr/>
          <p:nvPr/>
        </p:nvPicPr>
        <p:blipFill>
          <a:blip r:embed="rId2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5948640" y="630864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1200" spc="-1" strike="noStrike">
                <a:solidFill>
                  <a:srgbClr val="000000"/>
                </a:solidFill>
                <a:latin typeface="Arial"/>
              </a:rPr>
              <a:t>© Uniunea Europeană, 2002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Documente completate individ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7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urriculum Vitae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, care vă ajută să vă prezentaţi competenţele şi calificările într-un mod eficient şi clar. Vă puteţi crea propriul CV Europass online, folosind instrucţiunile sau puteţi descărca modelul, exemplele şi instrucţiunile de completa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7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aşaportul lingvistic 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reprezintă un instrument de autoevaluare a competenţelor şi calificărilor lingvistice. Vă puteţi crea propriul paşaportul lingvistic Europass online, folosind instrucţiunile sau puteţi descărca modelul, exemplele şi instrucţiunile de completa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europass.jpg"/>
          <p:cNvPicPr/>
          <p:nvPr/>
        </p:nvPicPr>
        <p:blipFill>
          <a:blip r:embed="rId3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5948640" y="630864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1200" spc="-1" strike="noStrike">
                <a:solidFill>
                  <a:srgbClr val="000000"/>
                </a:solidFill>
                <a:latin typeface="Arial"/>
              </a:rPr>
              <a:t>© Uniunea Europeană, 2002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ocumente emise de autorităţile competente din domeniul educaţiei şi formării profesion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Documentul de mobilitate Europass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înregistrează cunoştinţele şi competenţele dobândite într-o altă ţară european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Suplimentul la certificatul profesional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descrie cunoştinţele şi competenţele dobândite de titularii certificatelor de studii şi formare. Acesta completează informaţiile din documentul original, făcându-l mai uşor de înţeles, în special în străinăt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Suplimentul la diploma de licenţă 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descrie cunoştinţele şi competenţele dobândite de titularii diplomelor de studii superioare. Acesta completează informaţiile din diploma originală, făcând-o mai uşor de înţeles, în special în străinăt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europass.jpg"/>
          <p:cNvPicPr/>
          <p:nvPr/>
        </p:nvPicPr>
        <p:blipFill>
          <a:blip r:embed="rId4"/>
          <a:stretch/>
        </p:blipFill>
        <p:spPr>
          <a:xfrm>
            <a:off x="0" y="0"/>
            <a:ext cx="1892160" cy="14191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48640" y="6308640"/>
            <a:ext cx="25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1200" spc="-1" strike="noStrike">
                <a:solidFill>
                  <a:srgbClr val="000000"/>
                </a:solidFill>
                <a:latin typeface="Arial"/>
              </a:rPr>
              <a:t>© Uniunea Europeană, 2002-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38:24Z</dcterms:created>
  <dc:creator>Diana</dc:creator>
  <dc:description/>
  <dc:language>en-US</dc:language>
  <cp:lastModifiedBy>Diana</cp:lastModifiedBy>
  <dcterms:modified xsi:type="dcterms:W3CDTF">2013-04-10T10:01:48Z</dcterms:modified>
  <cp:revision>47</cp:revision>
  <dc:subject/>
  <dc:title>CURRICULUM VITAE</dc:title>
</cp:coreProperties>
</file>