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228-8EFE-4016-8819-5E99CA18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F82-1285-4923-B3B5-F634560E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21E-69E4-470E-BE15-8CACE8FE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BB9-BB21-418C-8A2C-CF04F054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D8E-992C-400A-A95F-40E0DD8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014-EE5E-4105-9F36-63703225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B8F-C399-4CA9-BC8C-9022CF7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6C1-6EC3-48C9-8E83-EAB19CE5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297-E4FC-4E16-A609-482242F7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738-70E4-41C0-B7BA-022BCE72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C67-F108-48DB-8A15-88D1131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300-BB68-4164-88C6-AA06BDF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41CC-8524-4207-90ED-0D56087C7A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pass-ro.ro/pagina/cadrul_celor_8_competente_cheie" TargetMode="External"/><Relationship Id="rId2" Type="http://schemas.openxmlformats.org/officeDocument/2006/relationships/hyperlink" Target="http://www.europass-ro.ro/pagina/cadrul_celor_8_competente_chei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EQF_ro.pdf" TargetMode="External"/><Relationship Id="rId2" Type="http://schemas.openxmlformats.org/officeDocument/2006/relationships/hyperlink" Target="file:///EQF_ro.pdf" TargetMode="External"/><Relationship Id="rId3" Type="http://schemas.openxmlformats.org/officeDocument/2006/relationships/hyperlink" Target="file:///EQF_ro.pdf" TargetMode="External"/><Relationship Id="rId4" Type="http://schemas.openxmlformats.org/officeDocument/2006/relationships/hyperlink" Target="file:///EQF_ro.pdf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sj.dj.edu.ro/" TargetMode="External"/><Relationship Id="rId2" Type="http://schemas.openxmlformats.org/officeDocument/2006/relationships/hyperlink" Target="http://miedolj.isj.edu.ro/" TargetMode="External"/><Relationship Id="rId3" Type="http://schemas.openxmlformats.org/officeDocument/2006/relationships/hyperlink" Target="http://www.europass-ro.ro/" TargetMode="External"/><Relationship Id="rId4" Type="http://schemas.openxmlformats.org/officeDocument/2006/relationships/hyperlink" Target="http://www.anpcdefp.ro/" TargetMode="External"/><Relationship Id="rId5" Type="http://schemas.openxmlformats.org/officeDocument/2006/relationships/hyperlink" Target="http://www.edufor.ro/" TargetMode="External"/><Relationship Id="rId6" Type="http://schemas.openxmlformats.org/officeDocument/2006/relationships/hyperlink" Target="http://cnstefanvelovan.licee.edu.ro/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rdinul_mects_nr._4469_-_2012_europass.pdf/" TargetMode="External"/><Relationship Id="rId2" Type="http://schemas.openxmlformats.org/officeDocument/2006/relationships/hyperlink" Target="http://ordinul_mects_nr._4469_-_2012_europass.pdf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opass.cedefop.europa.e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uropass.cedefop.europa.eu/ro/documents/curriculum-vitae" TargetMode="External"/><Relationship Id="rId2" Type="http://schemas.openxmlformats.org/officeDocument/2006/relationships/hyperlink" Target="http://europass.cedefop.europa.eu/ro/documents/european-skills-passport/language-passpor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uropass.cedefop.europa.eu/ro/documents/european-skills-passport/europass-mobility" TargetMode="External"/><Relationship Id="rId2" Type="http://schemas.openxmlformats.org/officeDocument/2006/relationships/hyperlink" Target="http://europass.cedefop.europa.eu/ro/documents/european-skills-passport/certificate-supplement" TargetMode="External"/><Relationship Id="rId3" Type="http://schemas.openxmlformats.org/officeDocument/2006/relationships/hyperlink" Target="http://europass.cedefop.europa.eu/ro/documents/european-skills-passport/diploma-supplement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WORKSHOP</a:t>
            </a:r>
            <a:br>
              <a:rPr sz="8000"/>
            </a:b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EUROPAS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3885840"/>
            <a:ext cx="799308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98989"/>
                </a:solidFill>
                <a:latin typeface="Calibri"/>
              </a:rPr>
              <a:t>4 aprilie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98989"/>
                </a:solidFill>
                <a:latin typeface="Calibri"/>
              </a:rPr>
              <a:t>Colegiul Na</a:t>
            </a:r>
            <a:r>
              <a:rPr b="1" lang="ro-RO" sz="2800" spc="-1" strike="noStrike">
                <a:solidFill>
                  <a:srgbClr val="898989"/>
                </a:solidFill>
                <a:latin typeface="Calibri"/>
              </a:rPr>
              <a:t>ţional “Ştefan Velovan” Crai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898989"/>
                </a:solidFill>
                <a:latin typeface="Calibri"/>
              </a:rPr>
              <a:t>Promotor </a:t>
            </a:r>
            <a:r>
              <a:rPr b="1" lang="ro-RO" sz="1900" spc="-1" strike="noStrike">
                <a:solidFill>
                  <a:srgbClr val="898989"/>
                </a:solidFill>
                <a:latin typeface="Calibri"/>
              </a:rPr>
              <a:t>Naţional Europass: Elena Diana Brătuc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adrul european al celor 8 c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ompetențe-ch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1600200"/>
            <a:ext cx="8642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2006, Parlamentul European si Consiliul UE au adoptat o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comandare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u privire la stabilirea de competente cheie pentru invatarea de-a lungul intregii viet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Cadrul european privind competențele-cheie în procesul de învățare de-a lungul vieții identifică și definește 8 competențe-cheie necesare în vederea împlinirii pe plan personal a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cetățeniei active,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incluziunii sociale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și a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capacității de inserție profesională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într-o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societate bazată pe cunoașter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1. comunicarea în limba matern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2. comunicarea în limbi străin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3. competențele în domeniul matematicii și competențele de bază în știință și tehnolog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4. competențele digita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5. capacitatea de a învăța procesul de învăța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6. competențele sociale și civi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7. spiritul de inițiativă și antreprenoria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8. conștiința și expresia cultural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izitaţi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uropass-ro.ro/pagina/cadrul_celor_8_competente_chei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europass.jpg"/>
          <p:cNvPicPr/>
          <p:nvPr/>
        </p:nvPicPr>
        <p:blipFill>
          <a:blip r:embed="rId3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ISCED şi EQ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national Standard Classification of Education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ISC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ndard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ternational d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sificare al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ucatie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uropean Qualifications Framework - EQF (Cadrul European al Calificărilor - C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ISCED şi EQ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national Standard Classification of Education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- ISCE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ndard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ternational de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sificare al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ucatiei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) :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clasificare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</a:rPr>
              <a:t>programele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lor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</a:rPr>
              <a:t> educaţ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uropean Qualifications Framework - EQF (Cadrul European al Calificărilor - CEC):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clasificarea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</a:rPr>
              <a:t>sistemelor şi cadrelor calificăril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Nivelurile CEC nu reflectă participarea la un program educaţional particular sau competenţele cerute pentru anumite sarcini sau ocupaţii.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CEC presupune doar o 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ierarhie parţială a programelor educaţionale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CEC se concentrează asupra rezultatelor învăţării sub forma cunoştinţelor, a abilităţilor şi a competenţelor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Sistemul naţional de învăţămâ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68360" y="1074600"/>
            <a:ext cx="41040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QF în România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NC – Cadrul National al Calificarilor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lificările obţinute prin absolvire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învățământul profesional și tehnic preuniversita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nt structurate astfel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ivelul I de calificare prin școala de arte și meserii (corespunzător nivelului 2 EQ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ivelul II de calificare prin anul de completare (nivel 3 EQ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ivelul III de calificare prin ciclul superior al liceului – filiera tehnologică (nivel 4 EQ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învățământ postliceal (nivel 5 EQ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lificările obţinute prin absolvirea studiilor universitar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sunt structurate astfel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iile universitare de licenţă corespund nivelului 6 de calificare EQF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iile universitare de masterat corespund nivelului 7 de calificare EQF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iile universitare de doctorat corespund nivelului 8 de calificare EQ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Cadrul European al Calificărilor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European Qualifications Framework for lifelong learning (EQF)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RECOMANDAREA PARLAMENTULUI EUROPEAN ȘI A CONSILIULU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din 23 aprilie 2008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rivind stabilirea Cadrului european al calificărilor pentru învățarea de-a lungul vieți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defineş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ficare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 rezultat formal al unui proces de evalua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 de validare, care este ob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ut atunci când u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ganism competent stabi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 cã o persoanã a ob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ut rezultate ca urmare a înv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ãrii la anumite standar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unoștințe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rezultatul asimilării de informații pr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învăț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nsamblul de fapte,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rincipii, teorii și practici legate de un anumit domeniu de muncă sau de studi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unoștinț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teore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unoştinţe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fap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&gt;&gt;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Cadrul European al Calificărilor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European Qualifications Framework for lifelong learning (E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bilităţ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atea de a aplica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de a utiliza cuno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n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 pentru a aduce la îndeplinire sarcini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pentru 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zolva problem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bilităţi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gnitive (implicând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tilizarea gândirii logice, intuitiv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creativ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bilităţi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actice (implicând dexteritate manualã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utilizarea de metode, materiale,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elt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instrumen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ompetenţ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capacitatea dovedită de a utiliza cunoștințe, abilități și capacități personale, sociale și/sau metodologic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în situații de muncă sau de studiu și pentru dezvoltarea profesională și personal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competența descrisă din perspectiva responsabilității și autonomie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drul european al calificărilor (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QF/</a:t>
            </a:r>
            <a:r>
              <a:rPr b="0" lang="vi-V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EC)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vi-V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Descriptori de definire a niveluril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europass.jpg"/>
          <p:cNvPicPr/>
          <p:nvPr/>
        </p:nvPicPr>
        <p:blipFill>
          <a:blip r:embed="rId5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151680" y="64641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CARIERĂ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RESURSE WEB PENTRU OPORTUNITĂŢI DE EDUCAŢIE ŞI FORM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ista site-urilor de Internet si a resurselor on-line pentru orientare si educatie privind cari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Vizitaţi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http://europass.cedefop.europa.eu/ro/learning-and-working-in-europ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http://www.edufor.ro/resurse_cariera.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6151680" y="64641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Calibri"/>
              </a:rPr>
              <a:t>ACTIVITATE PRACTICĂ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cesaţi portalul european Europa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http://europass.cedefop.europa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ti meniul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“Documente Europa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ţi secţiunile dedicate fiecărui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ţi submeniurile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“Descărcaţi documente”/“Exempl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Evaluaţi-vă nivelul competenţelor  lingvistice într-o limbă străină, utilizând grila de autoevaluare din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Paşaportul lingvistic Europass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, elaborată conform Cadrului European Comun de Referinţă pentru Limbi Stră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Calibri"/>
              </a:rPr>
              <a:t>ACTIVITATE PRACTICĂ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cesaţi portalul european Europa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http://europass.cedefop.europa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ti meniul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“Documente Europa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ţi secţiunea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“Curriculum vita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Creaţi CV-ul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Salvaţi CV-ul în format pdf 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cumentele şi datele conţinute de acestea nu sunt permanent stocate pe serverele Europass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zualiza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-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tualizaţi-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Trimiteţi-l prin e-mail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pe </a:t>
            </a: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adresa person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ORGANIZ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ectoratul Şcolar Judeţean Dolj – Departamentul Proiecte Educaţionale: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sj.dj.edu.ro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iedolj.isj.edu.ro/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Centrul Naţional CDEFP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uropass-ro.ro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anpcdefp.ro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Asociaţia EduFor Craiov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edufor.ro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Colegiul Naţional “Ştefan Velovan” Craiov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cnstefanvelovan.licee.edu.ro/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europass.jpg"/>
          <p:cNvPicPr/>
          <p:nvPr/>
        </p:nvPicPr>
        <p:blipFill>
          <a:blip r:embed="rId7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entru mai multe informaţii accesaţ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http://europass.cedefop.europa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Calibri"/>
              </a:rPr>
              <a:t>www.europass-ro.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Calibri"/>
              </a:rPr>
              <a:t>SUCCE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Diana Brătucu - promotor naţional Europ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anabratuc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@yahoo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www.edufor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facebook.com/AsociatiaEdu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tact@edufor.r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CENTRUL NAŢIONAL EUROPASS (C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1700" spc="-1" strike="noStrike">
                <a:solidFill>
                  <a:srgbClr val="000000"/>
                </a:solidFill>
                <a:latin typeface="Calibri"/>
              </a:rPr>
              <a:t>Cine este CNE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arte a Agentiei Nationale pentru Programe Comunitare in Domeniul Educatiei si Formarii Profesionale (ANPCDEFP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1700" spc="-1" strike="noStrike">
                <a:solidFill>
                  <a:srgbClr val="000000"/>
                </a:solidFill>
                <a:latin typeface="Calibri"/>
              </a:rPr>
              <a:t>Cum a apărut în România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HG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nr. 67 din 24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.02.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007 </a:t>
            </a:r>
            <a:r>
              <a:rPr b="0" i="1" lang="en-GB" sz="1700" spc="-1" strike="noStrike">
                <a:solidFill>
                  <a:srgbClr val="000000"/>
                </a:solidFill>
                <a:latin typeface="Calibri"/>
              </a:rPr>
              <a:t>privind participarea Romaniei la programele comunita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1700" spc="-1" strike="noStrike">
                <a:solidFill>
                  <a:srgbClr val="000000"/>
                </a:solidFill>
                <a:latin typeface="Calibri"/>
              </a:rPr>
              <a:t>Ce rol are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Dezvolta si implementeaza strategia nationala Europas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Deruleaza activitati de informare si promovare a documentelor Europass şi Youthpa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Ofera sprijin in completarea si emiterea documentelor Europass şi Youthpa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În cazul Documentului de mobilitate Europass, coordoneaza procesul de eliberare a documentelor, impreuna cu institutiile emitente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Coordoneaza reteaua de promotori Europass care organizeaza si desfasoara activitati de informare/pro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ovare la nivel loc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000000"/>
                </a:solidFill>
                <a:latin typeface="Calibri"/>
              </a:rPr>
              <a:t>www.europass-ro.ro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EUROP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e este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Europass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ortofoliu personal de documente pe care cetatenii il pot folosi pentru a-si face cunoscute calificarile si competentele in Europa, in vederea facilitarii accesului pe piata muncii sau al accesului la programe de educatie si forma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um a apăru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ecizia nr. 2241/2004/EC a Parlamentului European si a Consiliului UE (15 decembrie 2004), in vederea crearii unui cadru de asigurare a transparentei calificarilor si competentelor in spatiul europea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utilizare a instrumentelor Europass si Youth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ODOLOGIA de utilizare a instrumentelor Europass si Youthpass aprobat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ă prin ORDIN nr. 4.469 din 12 iunie 2012 -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MINISTERUL MUNCII, FAMILIEI SI PROTEC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EI SOCIALE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MINISTERUL EDUCA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EI, CERCETÃRII, TINERETULUI SI SPORTULU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Calibri"/>
              </a:rPr>
              <a:t>CAP. I</a:t>
            </a:r>
            <a:r>
              <a:rPr b="0" i="1" lang="ro-RO" sz="1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1700" spc="-1" strike="noStrike">
                <a:solidFill>
                  <a:srgbClr val="000000"/>
                </a:solidFill>
                <a:latin typeface="Calibri"/>
              </a:rPr>
              <a:t>Dispozi</a:t>
            </a:r>
            <a:r>
              <a:rPr b="0" i="1" lang="ro-RO" sz="17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en-GB" sz="1700" spc="-1" strike="noStrike">
                <a:solidFill>
                  <a:srgbClr val="000000"/>
                </a:solidFill>
                <a:latin typeface="Calibri"/>
              </a:rPr>
              <a:t>ii genera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RT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Documentele Europass si Youthpass sunt instrumente care facilitează accesul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oricărei persoane la programe de educ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ie/formare sau pe pi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a muncii, indiferent de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vârstă, nivel de educ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ie sau domeniu de activit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RT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Documentele Europass si Youthpass reprezintă instrumente de prezentare si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organizare a propriului parcurs de dezvoltare si formare, din perspectiva învă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ării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 tot parcursul vie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RT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Documentele Europass si Youthpass sunt pă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rţi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 componente ale portofoliului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educ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ional si ale portofoliului de educ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ie permanent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ETODOLOGIA_x000b_de utilizare a instrumentelor Europass si Youthpass</a:t>
            </a: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– OM 4469/12.06.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1. Textul metodologie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. I. Dispozitii gene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. II. Instrumente Euro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 III. Certificatul Youth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. IV. Dispoz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ţii fi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2. Anex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1 la metodologie:  InstrucŢiuni pentru folosirea curriculumului vitae Euro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2 la metodologie: Pasaport lingvistic Euro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3 la metodologie : InstrucŢiuni pentru completarea Pasaportului lingvistic Euro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4 la metodologie : Niveluri europene - Grilă de autoevalu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5 la metodologie : Supliment Europass la diplomã europass/Diploma Suppl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europass.jpg"/>
          <p:cNvPicPr/>
          <p:nvPr/>
        </p:nvPicPr>
        <p:blipFill>
          <a:blip r:embed="rId3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E CUPRINDE PORTOFOLIUL EUROPA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. Curriculum Vitae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  2. Pasaportul lingvistic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  3. Suplimentul la certificatul profesional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  4. Suplimentul la diploma de licent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  5. Documentul de mobilit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ertificatul Youthpass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– Programul Ti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mpeten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 dobândite în contexte nonformale s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ormal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Accesaţi p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rtalul european Europass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uropass.cedefop.europa.eu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uropass.jpg"/>
          <p:cNvPicPr/>
          <p:nvPr/>
        </p:nvPicPr>
        <p:blipFill>
          <a:blip r:embed="rId2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Documente completate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urriculum Vitae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, care vă ajută să vă prezentaţi competenţele şi calificările într-un mod eficient şi clar. Vă puteţi crea propriul CV Europass online, folosind instrucţiunile sau puteţi descărca modelul, exemplele şi instrucţiunile de complet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aşaportul lingvistic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reprezintă un instrument de autoevaluare a competenţelor şi calificărilor lingvistice. Vă puteţi crea propriul paşaportul lingvistic Europass online, folosind instrucţiunile sau puteţi descărca modelul, exemplele şi instrucţiunile de completa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uropass.jpg"/>
          <p:cNvPicPr/>
          <p:nvPr/>
        </p:nvPicPr>
        <p:blipFill>
          <a:blip r:embed="rId3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ocumente emise de autorităţile competente din domeniul educaţiei şi formării profesion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Documentul de mobilitate Europass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înregistrează cunoştinţele şi competenţele dobândite într-o altă ţară european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uplimentul la certificatul profesional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descrie cunoştinţele şi competenţele dobândite de titularii certificatelor de studii şi formare. Acesta completează informaţiile din documentul original, făcându-l mai uşor de înţeles, în special în străinăt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Suplimentul la diploma de licenţă 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descrie cunoştinţele şi competenţele dobândite de titularii diplomelor de studii superioare. Acesta completează informaţiile din diploma originală, făcând-o mai uşor de înţeles, în special în străinăt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europass.jpg"/>
          <p:cNvPicPr/>
          <p:nvPr/>
        </p:nvPicPr>
        <p:blipFill>
          <a:blip r:embed="rId4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38:24Z</dcterms:created>
  <dc:creator>Diana</dc:creator>
  <dc:description/>
  <dc:language>en-US</dc:language>
  <cp:lastModifiedBy>Diana</cp:lastModifiedBy>
  <dcterms:modified xsi:type="dcterms:W3CDTF">2013-04-10T09:58:49Z</dcterms:modified>
  <cp:revision>58</cp:revision>
  <dc:subject/>
  <dc:title>CURRICULUM VITAE</dc:title>
</cp:coreProperties>
</file>